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6F6F-14CD-4696-B677-096A192D91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A664-B7CB-43DB-91D7-607392AF8F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9A4-259F-4A45-B57A-020C4255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DFB-960E-4A86-BF23-D6FA4527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FB5-6902-48D6-9688-3B79DBDC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7EE-DE65-4971-B331-3B1F2970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1FB0-79FF-4093-852F-B971F02D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577-E951-4576-ADA0-2C309603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80D-D2B7-4161-8AD6-922E2E86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98E-227D-48C4-977C-1233431F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6626-735C-4D0A-9ECF-325D18D8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787-87A4-448D-8901-3468E6F1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486-9E49-4449-B6E3-F4B210D3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B3C-3900-4B3B-BB8E-CB14D1C9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D398-4D52-437E-A556-86308AE8B6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1182-3C5B-41E2-B40E-0D3ABE81FE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08080" y="1433520"/>
          <a:ext cx="8874000" cy="524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433520"/>
                    <a:ext cx="887400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октября 202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48BD-7BCF-458B-87F8-B846565FD0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 на 1 октября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2020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311040" y="907920"/>
          <a:ext cx="8832960" cy="618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907920"/>
                    <a:ext cx="8832960" cy="61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0-10-01T05:58:14Z</dcterms:modified>
  <cp:revision>120</cp:revision>
  <dc:subject/>
  <dc:title>Презентация PowerPoint</dc:title>
</cp:coreProperties>
</file>